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0.wmf" ContentType="image/x-wmf"/>
  <Override PartName="/ppt/media/image25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9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28.png" ContentType="image/png"/>
  <Override PartName="/ppt/media/image5.png" ContentType="image/png"/>
  <Override PartName="/ppt/media/image29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C59-5F4B-432E-B83C-E9826D07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2D1-824D-4662-9C75-0855D707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12B-F6C1-42CE-BBA5-825EFBB8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021-15D3-41A2-B413-A842FC57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AEB-3288-4626-9D09-816EA482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07E3-398B-4871-9ADA-9118FADE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D66-C677-4D56-ADE4-3FE11677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44F-A224-4B11-8179-5626C97E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C62-E54C-4C0A-813E-4F9DE64B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782-5A4C-4579-87EA-0317AC9B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FDD-FC2B-4C0F-B03B-B011F85D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5FB-C929-4411-9CD2-7890F77D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9705-C344-4D82-82BD-076A9AD8D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ATP &amp; Ener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Objective 16: Analyze photosynthesis and cellular respiration in terms of how energy is stored, released and transferred within and between thes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04920" y="1752480"/>
            <a:ext cx="8686800" cy="44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by which producers conver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su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o chemical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form of glucose (fo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s light energy into stored energy using inorganic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Cj04325890000[1]"/>
          <p:cNvPicPr/>
          <p:nvPr/>
        </p:nvPicPr>
        <p:blipFill>
          <a:blip r:embed="rId1"/>
          <a:stretch/>
        </p:blipFill>
        <p:spPr>
          <a:xfrm>
            <a:off x="3417840" y="3200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>
            <a:off x="4648320" y="3746520"/>
            <a:ext cx="167616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MCj03000490000[1]"/>
          <p:cNvPicPr/>
          <p:nvPr/>
        </p:nvPicPr>
        <p:blipFill>
          <a:blip r:embed="rId2"/>
          <a:stretch/>
        </p:blipFill>
        <p:spPr>
          <a:xfrm>
            <a:off x="6411960" y="3056040"/>
            <a:ext cx="17557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25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228600" y="152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view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026"/>
          <p:cNvGrpSpPr/>
          <p:nvPr/>
        </p:nvGrpSpPr>
        <p:grpSpPr>
          <a:xfrm>
            <a:off x="752400" y="152280"/>
            <a:ext cx="7053120" cy="3951360"/>
            <a:chOff x="752400" y="152280"/>
            <a:chExt cx="7053120" cy="3951360"/>
          </a:xfrm>
        </p:grpSpPr>
        <p:pic>
          <p:nvPicPr>
            <p:cNvPr id="93" name="Picture 1027" descr=""/>
            <p:cNvPicPr/>
            <p:nvPr/>
          </p:nvPicPr>
          <p:blipFill>
            <a:blip r:embed="rId1"/>
            <a:stretch/>
          </p:blipFill>
          <p:spPr>
            <a:xfrm>
              <a:off x="2555640" y="152280"/>
              <a:ext cx="5249880" cy="395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Group 1028"/>
            <p:cNvGrpSpPr/>
            <p:nvPr/>
          </p:nvGrpSpPr>
          <p:grpSpPr>
            <a:xfrm>
              <a:off x="2197080" y="711000"/>
              <a:ext cx="2031480" cy="406440"/>
              <a:chOff x="2197080" y="711000"/>
              <a:chExt cx="2031480" cy="406440"/>
            </a:xfrm>
          </p:grpSpPr>
          <p:sp>
            <p:nvSpPr>
              <p:cNvPr id="95" name="Line 1029"/>
              <p:cNvSpPr/>
              <p:nvPr/>
            </p:nvSpPr>
            <p:spPr>
              <a:xfrm flipH="1">
                <a:off x="2478600" y="711360"/>
                <a:ext cx="1451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1030"/>
              <p:cNvSpPr/>
              <p:nvPr/>
            </p:nvSpPr>
            <p:spPr>
              <a:xfrm flipH="1">
                <a:off x="2463840" y="1117440"/>
                <a:ext cx="176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1031"/>
              <p:cNvSpPr/>
              <p:nvPr/>
            </p:nvSpPr>
            <p:spPr>
              <a:xfrm flipV="1">
                <a:off x="2463840" y="711000"/>
                <a:ext cx="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032"/>
              <p:cNvSpPr/>
              <p:nvPr/>
            </p:nvSpPr>
            <p:spPr>
              <a:xfrm>
                <a:off x="2197080" y="914400"/>
                <a:ext cx="25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Text Box 1033"/>
            <p:cNvSpPr/>
            <p:nvPr/>
          </p:nvSpPr>
          <p:spPr>
            <a:xfrm>
              <a:off x="752400" y="519120"/>
              <a:ext cx="1493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o outer membra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34"/>
            <p:cNvSpPr/>
            <p:nvPr/>
          </p:nvSpPr>
          <p:spPr>
            <a:xfrm flipH="1">
              <a:off x="2705040" y="2540160"/>
              <a:ext cx="157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035"/>
            <p:cNvSpPr/>
            <p:nvPr/>
          </p:nvSpPr>
          <p:spPr>
            <a:xfrm>
              <a:off x="752400" y="2373480"/>
              <a:ext cx="196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036"/>
            <p:cNvSpPr/>
            <p:nvPr/>
          </p:nvSpPr>
          <p:spPr>
            <a:xfrm>
              <a:off x="752400" y="2879640"/>
              <a:ext cx="30542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037"/>
          <p:cNvGrpSpPr/>
          <p:nvPr/>
        </p:nvGrpSpPr>
        <p:grpSpPr>
          <a:xfrm>
            <a:off x="1295280" y="2649600"/>
            <a:ext cx="7560720" cy="3841200"/>
            <a:chOff x="1295280" y="2649600"/>
            <a:chExt cx="7560720" cy="3841200"/>
          </a:xfrm>
        </p:grpSpPr>
        <p:pic>
          <p:nvPicPr>
            <p:cNvPr id="104" name="Picture 1038" descr=""/>
            <p:cNvPicPr/>
            <p:nvPr/>
          </p:nvPicPr>
          <p:blipFill>
            <a:blip r:embed="rId2"/>
            <a:stretch/>
          </p:blipFill>
          <p:spPr>
            <a:xfrm>
              <a:off x="3939840" y="4670280"/>
              <a:ext cx="3330720" cy="18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39"/>
            <p:cNvSpPr/>
            <p:nvPr/>
          </p:nvSpPr>
          <p:spPr>
            <a:xfrm>
              <a:off x="4995000" y="4686120"/>
              <a:ext cx="9410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040"/>
            <p:cNvSpPr/>
            <p:nvPr/>
          </p:nvSpPr>
          <p:spPr>
            <a:xfrm>
              <a:off x="4777920" y="5499000"/>
              <a:ext cx="10447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041"/>
            <p:cNvSpPr/>
            <p:nvPr/>
          </p:nvSpPr>
          <p:spPr>
            <a:xfrm flipV="1">
              <a:off x="5300640" y="5271480"/>
              <a:ext cx="0" cy="25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042"/>
            <p:cNvSpPr/>
            <p:nvPr/>
          </p:nvSpPr>
          <p:spPr>
            <a:xfrm>
              <a:off x="7436160" y="551952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(see next slid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043"/>
            <p:cNvSpPr/>
            <p:nvPr/>
          </p:nvSpPr>
          <p:spPr>
            <a:xfrm>
              <a:off x="5711760" y="2649600"/>
              <a:ext cx="1536480" cy="888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44"/>
            <p:cNvSpPr/>
            <p:nvPr/>
          </p:nvSpPr>
          <p:spPr>
            <a:xfrm>
              <a:off x="6499080" y="3538440"/>
              <a:ext cx="0" cy="11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045"/>
            <p:cNvSpPr/>
            <p:nvPr/>
          </p:nvSpPr>
          <p:spPr>
            <a:xfrm flipH="1">
              <a:off x="3692160" y="6268680"/>
              <a:ext cx="49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046"/>
            <p:cNvSpPr/>
            <p:nvPr/>
          </p:nvSpPr>
          <p:spPr>
            <a:xfrm>
              <a:off x="1295280" y="5873400"/>
              <a:ext cx="2446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cked part of  thylakoid membr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Text Box 1049"/>
          <p:cNvSpPr/>
          <p:nvPr/>
        </p:nvSpPr>
        <p:spPr>
          <a:xfrm>
            <a:off x="6172200" y="304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93600" y="3111480"/>
            <a:ext cx="384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tosynthesis occurs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plant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 Dependent reaction occurs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ylakoid membr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 Independent reaction occurs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9360" y="533520"/>
            <a:ext cx="9144000" cy="580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8600" y="0"/>
            <a:ext cx="116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828800" y="58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w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838800" y="1981080"/>
            <a:ext cx="146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211080" y="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arbon diox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706080" y="1828800"/>
            <a:ext cx="169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6935400" y="40863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262760" y="571500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(metabolic w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2076840" y="5715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4154760" y="14097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3989520" y="2124000"/>
            <a:ext cx="1218600" cy="440640"/>
          </a:xfrm>
          <a:prstGeom prst="rect">
            <a:avLst/>
          </a:prstGeom>
          <a:solidFill>
            <a:srgbClr val="d8e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P +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4076640" y="29718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3957840" y="3581280"/>
            <a:ext cx="1174320" cy="398880"/>
          </a:xfrm>
          <a:prstGeom prst="rect">
            <a:avLst/>
          </a:prstGeom>
          <a:solidFill>
            <a:srgbClr val="d8e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P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40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1: The Light Dependent Rea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5440" y="1284120"/>
            <a:ext cx="89362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Harvest light energy and store it in the form of ATP and NADP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Thylakoid (Greek for “bag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ight energy from the sun, Water  (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Energy from the sun is absorbed by chlorophyll pigments and used to excite electr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Excited electrons are used to make energy molecules (NADPH and ATP) for the light independ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is split and the hydrogen ions are used to help make the energy molecules while the oxygen atoms are released as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Energy molecules (ATP and NADPH), Oxygen (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553080" y="1905120"/>
            <a:ext cx="188928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943280" y="1000080"/>
            <a:ext cx="52578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28600" y="-15264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2: The Light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t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28520" y="1143000"/>
            <a:ext cx="899172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Use energy molecules from light dependent rxn to build gluco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Stroma of the chlorop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Energy molecules from light dependent rxn and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Carbon fixation-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om the atmosphere is rearranged into 6 molecules of a 3-carbon compound called PG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Reduction- ATP and NADPH from light dependent rxn energize the PGA molecules forming 6 PGAL molec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Regeneration- 1 PGAL molecule exits the cycle to eventually become glucose, the other 5 PGAL molecules are recycled in the form of RuB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It takes two turns of the Calvin cycle to make 1 glucose!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GAL x 2 = gluco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Glucose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35160" y="1033560"/>
            <a:ext cx="66736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sis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152280" y="1752480"/>
            <a:ext cx="883944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and other pigments located in the chloroplasts absorb the sun’s energy, which stimulates carbon dioxide and water to react and form glucose and oxy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ergy is stored in the bonds of the glucose.  Organisms must break these bonds (do cellular respiration) to get th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rcRect l="4688" t="43752" r="2344" b="39583"/>
          <a:stretch/>
        </p:blipFill>
        <p:spPr>
          <a:xfrm>
            <a:off x="76320" y="4572000"/>
            <a:ext cx="9067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380880" y="380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 that Affect the Rate of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17400" y="1447920"/>
            <a:ext cx="815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nten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dioxide concentr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31960" y="4664160"/>
            <a:ext cx="59245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10080" y="-223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14400" y="304920"/>
            <a:ext cx="7620120" cy="6057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467480" y="6094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 hidden="1"/>
          <p:cNvSpPr/>
          <p:nvPr/>
        </p:nvSpPr>
        <p:spPr>
          <a:xfrm>
            <a:off x="4952880" y="2255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934320" y="472428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 hidden="1"/>
          <p:cNvSpPr/>
          <p:nvPr/>
        </p:nvSpPr>
        <p:spPr>
          <a:xfrm>
            <a:off x="380880" y="35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666880" y="297180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phosphate grou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8600" y="685800"/>
            <a:ext cx="57913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enosine Triphosphate (A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◙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of energy that the body can use ($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pictu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685800" y="20192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, like carbon,  are recycled and rearranged into different forms for different purpos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114640" y="2879640"/>
            <a:ext cx="491472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8288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12160" cy="1533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Mammals3"/>
          <p:cNvPicPr/>
          <p:nvPr/>
        </p:nvPicPr>
        <p:blipFill>
          <a:blip r:embed="rId2"/>
          <a:stretch/>
        </p:blipFill>
        <p:spPr>
          <a:xfrm>
            <a:off x="5715000" y="3429000"/>
            <a:ext cx="3124080" cy="2077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fruitbat"/>
          <p:cNvPicPr/>
          <p:nvPr/>
        </p:nvPicPr>
        <p:blipFill>
          <a:blip r:embed="rId3"/>
          <a:stretch/>
        </p:blipFill>
        <p:spPr>
          <a:xfrm>
            <a:off x="3200400" y="4495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22423956"/>
          <p:cNvPicPr/>
          <p:nvPr/>
        </p:nvPicPr>
        <p:blipFill>
          <a:blip r:embed="rId4"/>
          <a:stretch/>
        </p:blipFill>
        <p:spPr>
          <a:xfrm>
            <a:off x="380880" y="3352680"/>
            <a:ext cx="2895840" cy="1933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Helianthus_divaricatus_flowers"/>
          <p:cNvPicPr/>
          <p:nvPr/>
        </p:nvPicPr>
        <p:blipFill>
          <a:blip r:embed="rId5"/>
          <a:stretch/>
        </p:blipFill>
        <p:spPr>
          <a:xfrm>
            <a:off x="3657600" y="2666880"/>
            <a:ext cx="16095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430200"/>
            <a:ext cx="9144000" cy="5997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62120" y="1305000"/>
            <a:ext cx="6973920" cy="5553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784960" y="504720"/>
            <a:ext cx="16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chond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868000" y="504720"/>
            <a:ext cx="16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chond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393440" y="44956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904720" y="44956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33360" y="0"/>
            <a:ext cx="8477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Rectangle 2"/>
          <p:cNvGrpSpPr/>
          <p:nvPr/>
        </p:nvGrpSpPr>
        <p:grpSpPr>
          <a:xfrm>
            <a:off x="689040" y="0"/>
            <a:ext cx="7815240" cy="6248520"/>
            <a:chOff x="689040" y="0"/>
            <a:chExt cx="7815240" cy="6248520"/>
          </a:xfrm>
        </p:grpSpPr>
        <p:pic>
          <p:nvPicPr>
            <p:cNvPr id="162" name="Rectangle 2" descr=""/>
            <p:cNvPicPr/>
            <p:nvPr/>
          </p:nvPicPr>
          <p:blipFill>
            <a:blip r:embed="rId1"/>
            <a:stretch/>
          </p:blipFill>
          <p:spPr>
            <a:xfrm>
              <a:off x="691920" y="0"/>
              <a:ext cx="781056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89040" y="0"/>
              <a:ext cx="7815240" cy="624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36"/>
          <p:cNvGrpSpPr/>
          <p:nvPr/>
        </p:nvGrpSpPr>
        <p:grpSpPr>
          <a:xfrm>
            <a:off x="713520" y="38160"/>
            <a:ext cx="7525080" cy="6060240"/>
            <a:chOff x="713520" y="38160"/>
            <a:chExt cx="7525080" cy="6060240"/>
          </a:xfrm>
        </p:grpSpPr>
        <p:sp>
          <p:nvSpPr>
            <p:cNvPr id="165" name="Text Box 3"/>
            <p:cNvSpPr/>
            <p:nvPr/>
          </p:nvSpPr>
          <p:spPr>
            <a:xfrm>
              <a:off x="713880" y="5076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4"/>
            <p:cNvSpPr/>
            <p:nvPr/>
          </p:nvSpPr>
          <p:spPr>
            <a:xfrm>
              <a:off x="713520" y="1994040"/>
              <a:ext cx="142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5"/>
            <p:cNvSpPr/>
            <p:nvPr/>
          </p:nvSpPr>
          <p:spPr>
            <a:xfrm>
              <a:off x="3805920" y="69696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6"/>
            <p:cNvSpPr/>
            <p:nvPr/>
          </p:nvSpPr>
          <p:spPr>
            <a:xfrm>
              <a:off x="3174840" y="3886200"/>
              <a:ext cx="2775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PORT PHOSPHORY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4714920" y="2971800"/>
              <a:ext cx="118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7440840" y="3114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7137720" y="4148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0"/>
            <p:cNvSpPr/>
            <p:nvPr/>
          </p:nvSpPr>
          <p:spPr>
            <a:xfrm>
              <a:off x="1066680" y="990720"/>
              <a:ext cx="1525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ergy input 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rt re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6202440" y="2093760"/>
              <a:ext cx="662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C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"/>
            <p:cNvSpPr/>
            <p:nvPr/>
          </p:nvSpPr>
          <p:spPr>
            <a:xfrm>
              <a:off x="6202440" y="2732040"/>
              <a:ext cx="662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 C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7072200" y="3100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6670080" y="4133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5"/>
            <p:cNvSpPr/>
            <p:nvPr/>
          </p:nvSpPr>
          <p:spPr>
            <a:xfrm>
              <a:off x="5531040" y="501480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791080" y="229716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N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2791080" y="279252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 N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8"/>
            <p:cNvSpPr/>
            <p:nvPr/>
          </p:nvSpPr>
          <p:spPr>
            <a:xfrm>
              <a:off x="2789280" y="3173400"/>
              <a:ext cx="888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FAD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2791080" y="161136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N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4796280" y="1496880"/>
              <a:ext cx="107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21"/>
            <p:cNvSpPr/>
            <p:nvPr/>
          </p:nvSpPr>
          <p:spPr>
            <a:xfrm>
              <a:off x="3737520" y="3033720"/>
              <a:ext cx="7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22"/>
            <p:cNvSpPr/>
            <p:nvPr/>
          </p:nvSpPr>
          <p:spPr>
            <a:xfrm>
              <a:off x="3884760" y="545004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23"/>
            <p:cNvSpPr/>
            <p:nvPr/>
          </p:nvSpPr>
          <p:spPr>
            <a:xfrm>
              <a:off x="7117560" y="123660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 ATP 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4"/>
            <p:cNvSpPr/>
            <p:nvPr/>
          </p:nvSpPr>
          <p:spPr>
            <a:xfrm>
              <a:off x="4054320" y="38160"/>
              <a:ext cx="8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25"/>
            <p:cNvSpPr/>
            <p:nvPr/>
          </p:nvSpPr>
          <p:spPr>
            <a:xfrm rot="5400000">
              <a:off x="7308720" y="4959360"/>
              <a:ext cx="152640" cy="1193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0960 h 1193760"/>
                <a:gd name="textAreaBottom" fmla="*/ 1162800 h 11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26"/>
            <p:cNvSpPr/>
            <p:nvPr/>
          </p:nvSpPr>
          <p:spPr>
            <a:xfrm>
              <a:off x="4951800" y="5791320"/>
              <a:ext cx="30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YPICAL ENERGY YIELD:  36 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27"/>
            <p:cNvSpPr/>
            <p:nvPr/>
          </p:nvSpPr>
          <p:spPr>
            <a:xfrm>
              <a:off x="2135160" y="3833640"/>
              <a:ext cx="32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3737520" y="2639880"/>
              <a:ext cx="7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29"/>
            <p:cNvSpPr/>
            <p:nvPr/>
          </p:nvSpPr>
          <p:spPr>
            <a:xfrm>
              <a:off x="3736800" y="2157480"/>
              <a:ext cx="77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+ 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30"/>
            <p:cNvSpPr/>
            <p:nvPr/>
          </p:nvSpPr>
          <p:spPr>
            <a:xfrm>
              <a:off x="7409160" y="504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31"/>
            <p:cNvSpPr/>
            <p:nvPr/>
          </p:nvSpPr>
          <p:spPr>
            <a:xfrm>
              <a:off x="4437000" y="50022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32"/>
            <p:cNvSpPr/>
            <p:nvPr/>
          </p:nvSpPr>
          <p:spPr>
            <a:xfrm>
              <a:off x="3317760" y="1150920"/>
              <a:ext cx="77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+ 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33"/>
            <p:cNvSpPr/>
            <p:nvPr/>
          </p:nvSpPr>
          <p:spPr>
            <a:xfrm>
              <a:off x="1554480" y="5810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34"/>
            <p:cNvSpPr/>
            <p:nvPr/>
          </p:nvSpPr>
          <p:spPr>
            <a:xfrm>
              <a:off x="1272960" y="581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704960"/>
            <a:ext cx="9144000" cy="344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enosine Triphosphate (AT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energy necessary to get a lot of reactions started (activation ener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nosine = adenine + rib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hosphate= 3 phosph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tp"/>
          <p:cNvPicPr/>
          <p:nvPr/>
        </p:nvPicPr>
        <p:blipFill>
          <a:blip r:embed="rId1"/>
          <a:stretch/>
        </p:blipFill>
        <p:spPr>
          <a:xfrm>
            <a:off x="4648320" y="4616280"/>
            <a:ext cx="43434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1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P (adenosine triphosphat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molecule that temporarily stores energy released from glucose and carries it to other parts of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3 bonds that store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phosphate bond is broken, energy is releas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ergo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phosphate bond is made, energy is stor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ndergo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41353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0492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P-ADP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atp_cycle"/>
          <p:cNvPicPr/>
          <p:nvPr/>
        </p:nvPicPr>
        <p:blipFill>
          <a:blip r:embed="rId1"/>
          <a:stretch/>
        </p:blipFill>
        <p:spPr>
          <a:xfrm>
            <a:off x="1752480" y="1295280"/>
            <a:ext cx="5372280" cy="5073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7162920" y="3581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y released for cell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0" y="35053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y gained from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676520" y="1828800"/>
            <a:ext cx="16002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2895480" y="1905120"/>
            <a:ext cx="762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1905120" y="4419720"/>
            <a:ext cx="17524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3429000" y="480060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o how do plants make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2695680"/>
            <a:ext cx="9144000" cy="1466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895480" y="914400"/>
            <a:ext cx="5612040" cy="594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1600200" y="533520"/>
            <a:ext cx="7543800" cy="5351400"/>
            <a:chOff x="1600200" y="533520"/>
            <a:chExt cx="7543800" cy="5351400"/>
          </a:xfrm>
        </p:grpSpPr>
        <p:sp>
          <p:nvSpPr>
            <p:cNvPr id="71" name="Rectangle 5"/>
            <p:cNvSpPr/>
            <p:nvPr/>
          </p:nvSpPr>
          <p:spPr>
            <a:xfrm>
              <a:off x="5106240" y="53352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NERGY 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7391520" y="2590560"/>
              <a:ext cx="1752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pounds, oxy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4875840" y="17524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otosynthe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4952880" y="4267080"/>
              <a:ext cx="198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bic respi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1600200" y="5486040"/>
              <a:ext cx="186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NERGY 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"/>
            <p:cNvSpPr/>
            <p:nvPr/>
          </p:nvSpPr>
          <p:spPr>
            <a:xfrm>
              <a:off x="2209680" y="2971440"/>
              <a:ext cx="1752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rb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oxide, wa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12"/>
          <p:cNvSpPr/>
          <p:nvPr/>
        </p:nvSpPr>
        <p:spPr>
          <a:xfrm>
            <a:off x="0" y="2286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view:  Photosynthesis and Cellular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819520" y="53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lupine-plants_3909"/>
          <p:cNvPicPr/>
          <p:nvPr/>
        </p:nvPicPr>
        <p:blipFill>
          <a:blip r:embed="rId1"/>
          <a:stretch/>
        </p:blipFill>
        <p:spPr>
          <a:xfrm>
            <a:off x="4572000" y="3733920"/>
            <a:ext cx="4267080" cy="2844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-76320" y="3505320"/>
            <a:ext cx="403884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ct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dioxide – 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–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–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–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rcRect l="4688" t="43752" r="2344" b="39583"/>
          <a:stretch/>
        </p:blipFill>
        <p:spPr>
          <a:xfrm>
            <a:off x="63360" y="1800360"/>
            <a:ext cx="90680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457200" y="1905120"/>
            <a:ext cx="83059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Things Necess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lorophy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ght-capturing pigment found in the chloroplast that absorbs all wavelengths (colors) of light except green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nl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trophs need light energy (sunlight) to transform reactants into pro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zym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zymes are needed to catalyze the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20:44:41Z</dcterms:created>
  <dc:creator>Zebulon Holsopple</dc:creator>
  <dc:description/>
  <cp:keywords/>
  <dc:language>en-US</dc:language>
  <cp:lastModifiedBy>Geneva Jost</cp:lastModifiedBy>
  <dcterms:modified xsi:type="dcterms:W3CDTF">2017-05-01T11:49:43Z</dcterms:modified>
  <cp:revision>27</cp:revision>
  <dc:subject>Biology Honors</dc:subject>
  <dc:title>4.2.1_Notes_ATP_Energy</dc:title>
</cp:coreProperties>
</file>